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7.gif" ContentType="image/gif"/>
  <Override PartName="/ppt/media/image9.png" ContentType="image/png"/>
  <Override PartName="/ppt/media/image11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CCB-414C-4308-9314-CC0CC749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8F6E-6862-471B-B6DE-B5D58E1D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307-1B4F-499D-85F8-033E19CAD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77A-D981-422E-852C-EC9793E0A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37E9-AF9F-48BB-82D9-0DD9FE3D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3303C-A60B-454A-950E-7ABE2871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F628-A7B0-4BFF-A858-80FDA8AD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72837-361C-4CF3-947D-9D1CFE5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B70-3701-42AE-BB75-F0029B1A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7FC9-610F-41C5-9B78-28432EA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F0CF-1982-46A2-9BB2-C39EE192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B84-81C3-4CAA-9D80-FC8072ED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D31B-1E54-47EE-8793-B324FED3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375-AF5E-47B4-BDEC-FF215243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DED2-8057-43B2-9F8E-516E3F52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C136-E3DB-411B-87A1-7728A8E8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573A-147F-48A3-B24B-FC5194AA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1285-4316-42AD-9032-310B1BAF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778B8-8291-4E2E-9CB7-7EC24C8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E9223-A618-4DB3-AA53-ABE0BC91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2F09B-BA3A-4D93-A429-F9AA589A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4B5E8-F2F2-4854-9226-589A2032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CBB6-7D46-48C7-AF7C-E1C5577F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AC606-FA82-451C-830B-40E2F24F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97567-D9AE-4665-AB53-7E70F1BC8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FDCD5-F2D2-44E0-8339-885FC56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59A34-1B9A-4D03-B492-18138CD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402DB-9B58-4103-A987-179646F0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3446A-11D0-4847-B7E8-B1A5C299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B70EE-1D79-483D-8869-6081FF22D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901D3-D266-4608-AC50-D25F07EBC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1A257-500E-4B74-9620-05C22AED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EDA06-7D9D-4C50-8596-526C0ECB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E76-DACC-47DA-B886-1C110CE4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5B317-4735-41EC-80F1-76366450D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63E6-4356-4ADF-8385-C4B51AAD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8BEB9-4ED8-4B07-8673-20737889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382A-E3E7-41B0-A9C9-F6ACB591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14A11-E11F-4137-8A8B-A62C5C28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E39C0-B284-46B7-8DFE-6A4F871F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355D4-7695-4657-A34A-140F9E06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6770-2618-40DA-B057-5F74FFE41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CB800-EF7C-4555-BC25-5B0764E79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BCA07-BAAF-4CDF-9C11-F5B5FC5C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7D45-8C57-4CA2-841B-94A85C09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E8E30-280C-4FC4-89E5-AB876C30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081BE-CDE4-49A1-98FC-A2372EE0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441E9-9973-4E76-94BB-27CAA0DCE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25343-1623-47FF-8CCD-C593860A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406C5-7B6F-4CDB-9A32-B148C4EF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1F2C6-A9A0-4D08-86E7-6E4E7EC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2A466-90B5-4019-8DF0-33AA4EA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F6465-F36D-4B05-93A6-E550E715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9BC4B-FF8E-440B-8364-EB825300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98C06-68A4-4978-9E68-C46EBD68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F51-9FFE-466B-A27C-A5EC890A2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C882E-E122-4C85-A5C5-364A3C91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877-1D0A-48C7-9E13-1AE44FC7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D0B-5C00-40E6-BF9B-0C84F4A2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A3C-B850-42E7-A0F3-C3BF744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99AB-39A8-4011-BF1E-C45CA777682C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7D0B-C1C3-447C-8F55-2CF47DC8BBE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CC0-8633-4B87-AA27-847F1148F45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248F-468A-45D6-BF65-9204509A3468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4E1-0D44-4EB7-A0FF-CA3D31FBDB5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530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http://www.heonis.info/pepsi/pepsi-can2(1949).jpg"/>
          <p:cNvPicPr/>
          <p:nvPr/>
        </p:nvPicPr>
        <p:blipFill>
          <a:blip r:embed="rId2"/>
          <a:stretch/>
        </p:blipFill>
        <p:spPr>
          <a:xfrm>
            <a:off x="838080" y="3352680"/>
            <a:ext cx="1587600" cy="31244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695520" y="6642000"/>
            <a:ext cx="1707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The first Pepsi-Cola can (1949) be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oca cola can"/>
          <p:cNvPicPr/>
          <p:nvPr/>
        </p:nvPicPr>
        <p:blipFill>
          <a:blip r:embed="rId3"/>
          <a:stretch/>
        </p:blipFill>
        <p:spPr>
          <a:xfrm>
            <a:off x="7467480" y="4114800"/>
            <a:ext cx="14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many different types of cans are in stores today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an you name some drinks that have a different style of can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9,102,-8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34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kind of measurements do you think of when we talk about can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are going to need to know the following formula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A = 2∏rh + 2∏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 = ∏r h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related when we think about the material a can is made out of and what it hold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esearch a company comes up with its can desig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ring a can in and measure the Surface area and Volum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e what happens when you change the dimensions of the can just a little bi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esent you finding to the clas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group can choose the can that you want to work with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nd the height, diameter, surface area, and volume of your can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ts compare your findings with your can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e they the same or different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dd one inch to the diameter and see what happen to the surface area and volume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ave a presentation ready to deliver in front of the class on your finding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1.bp.blogspot.com/_1x1mvb2W23Q/SXjTI4RbGRI/AAAAAAAAAd0/src6Q5HNTVQ/s400/greene.jpg"/>
          <p:cNvPicPr/>
          <p:nvPr/>
        </p:nvPicPr>
        <p:blipFill>
          <a:blip r:embed="rId2"/>
          <a:stretch/>
        </p:blipFill>
        <p:spPr>
          <a:xfrm>
            <a:off x="3149640" y="3505320"/>
            <a:ext cx="5003640" cy="33526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bw/photos/stylus/68621-CokeZero-MeanJoe.jpg"/>
          <p:cNvPicPr/>
          <p:nvPr/>
        </p:nvPicPr>
        <p:blipFill>
          <a:blip r:embed="rId3"/>
          <a:stretch/>
        </p:blipFill>
        <p:spPr>
          <a:xfrm>
            <a:off x="152280" y="0"/>
            <a:ext cx="38862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23:09:27Z</dcterms:created>
  <dc:creator>ECPS-USER</dc:creator>
  <dc:description/>
  <dc:language>en-US</dc:language>
  <cp:lastModifiedBy>ECPS-USER</cp:lastModifiedBy>
  <dcterms:modified xsi:type="dcterms:W3CDTF">2010-03-17T21:51:46Z</dcterms:modified>
  <cp:revision>11</cp:revision>
  <dc:subject/>
  <dc:title>Slide 1</dc:title>
</cp:coreProperties>
</file>